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13DA-C7DB-4E61-8999-73DF3D7D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00120" y="609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71960" y="198108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17196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CCBD-46B8-4055-B10F-CE73E4E3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00120" y="609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17196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8628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17196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8628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1860-F223-44A0-897E-6BE039267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00120" y="609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17196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9072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0912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17196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49072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0912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548C-DAB5-4E5D-8A29-A4541087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87F8-385F-4982-B2B5-1D9C9D71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00120" y="609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17196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75D8-F313-4D99-AF50-537ADE8A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00120" y="609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7196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3F56-0911-4FF5-8197-5CB3E8EF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00120" y="609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7196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8628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AC76-8F24-4A87-A765-77578469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00120" y="609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E232-16BE-42B1-9389-80AB7708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00120" y="609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B33D-7980-4CDC-A8F0-9CF136D8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00120" y="609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7196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8628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7196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EF20-BA17-409F-932B-EB81C5B2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00120" y="609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17196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B938-B0B5-46E3-9456-0E2B3634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00120" y="609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7196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8628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68628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4496-78D8-4084-AD04-A5E92380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00120" y="609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7196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8628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7196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485C-F306-46F6-B5AC-B995728E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00120" y="609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71960" y="198108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7196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A0C6-23E9-4451-BC29-5F02F744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00120" y="609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7196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8628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17196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68628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5E83-278D-4D2A-838B-EA9C3CC7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00120" y="609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7196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9072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80912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17196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549072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80912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EEEE-194D-450E-AFBA-0D9C10A96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00120" y="609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7196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2795-705B-4F20-9D17-0D05058C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00120" y="609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17196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8628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77A8-99B7-4FEB-9EDD-5198DBFF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00120" y="609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10BD-A8A3-4B2B-B698-39824BE1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00120" y="609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001E-6EFF-4876-B8B4-52DF3D3F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00120" y="609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17196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8628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17196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4FB3-350F-403C-A66E-5D3495F7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00120" y="609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17196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8628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628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B49C-2B01-4D51-93BA-2369A8AE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00120" y="609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17196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8628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17196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1B31-21D5-4430-A1C9-7C8C42A7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3257280" y="843120"/>
            <a:ext cx="651456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400120" y="609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17196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427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2876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65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A024-8582-4C73-858F-F631756B0D22}" type="slidenum">
              <a:rPr b="0" lang="it-IT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1029168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3257280" y="843120"/>
            <a:ext cx="651456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28520" y="228240"/>
            <a:ext cx="7456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427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402876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8865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F574-DB38-45A7-B62F-972BBBFAB12B}" type="slidenum">
              <a:rPr b="0" lang="it-IT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28520" y="228240"/>
            <a:ext cx="7456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PROSPETTIVE DELLA GENOMICA UMANA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629400" y="4495320"/>
            <a:ext cx="51436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99"/>
                </a:solidFill>
                <a:latin typeface="Arial"/>
              </a:rPr>
              <a:t>Gian Antonio Danieli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99"/>
                </a:solidFill>
                <a:latin typeface="Arial"/>
              </a:rPr>
              <a:t>Dipartimento di Biologia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99"/>
                </a:solidFill>
                <a:latin typeface="Arial"/>
              </a:rPr>
              <a:t>Universita' di Padova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00240" y="10267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6699"/>
                </a:solidFill>
                <a:latin typeface="Arial Narrow"/>
              </a:rPr>
              <a:t>La conoscenza della sequenza del DNA umano apre nuove prospettive di ricerca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24382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9999"/>
                </a:solidFill>
                <a:latin typeface="Arial"/>
              </a:rPr>
              <a:t>Si ritiene oggi che i geni umani siano tra 35.000 e 50.000, ciascuno dei quali con piu’ trascritti alternativi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9999"/>
                </a:solidFill>
                <a:latin typeface="Arial"/>
              </a:rPr>
              <a:t>Verosimilmente in ogni cellula differenziata e’ attivo il 50% dei geni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9999"/>
                </a:solidFill>
                <a:latin typeface="Arial"/>
              </a:rPr>
              <a:t>Capire come ne venga regolata l’ espressione in condizioni fisiologiche e patologiche e’ la sfida del prossimo decennio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6699"/>
                </a:solidFill>
                <a:latin typeface="Arial Narrow"/>
              </a:rPr>
              <a:t>La ricerca genomica si basa su metodi che producono dati su larga scala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00240" y="3581280"/>
            <a:ext cx="68580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9999"/>
                </a:solidFill>
                <a:latin typeface="Arial"/>
              </a:rPr>
              <a:t>Procedure automatizzate per la preparazione ed analisi dei campioni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9999"/>
                </a:solidFill>
                <a:latin typeface="Arial"/>
              </a:rPr>
              <a:t>Nuovi metodi basati sull’ ibridazione di “DNAchips” o di “DNA microarrays”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9999"/>
                </a:solidFill>
                <a:latin typeface="Arial"/>
              </a:rPr>
              <a:t>Analisi di masse di dati raccolti in database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00240" y="10267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6699"/>
                </a:solidFill>
                <a:latin typeface="Arial Narrow"/>
              </a:rPr>
              <a:t>I database costituiscono una risorsa ancora poco sfruttata ed utilizzabile con bassi costi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95480" y="2590920"/>
            <a:ext cx="6858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99"/>
                </a:solidFill>
                <a:latin typeface="Arial"/>
              </a:rPr>
              <a:t>Attualmente UniGene contiene informazioni riguardanti oltre 87.000 trascritti di geni umani, GDB informazioni su  11.121 geni, 793 pseudogeni e 38.797 geni putativi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99"/>
                </a:solidFill>
                <a:latin typeface="Arial"/>
              </a:rPr>
              <a:t>Si possono sviluppare facilmente software per cercare “oggetti” nei database, riclassificarli e predisporli per ulteriori analisi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99"/>
                </a:solidFill>
                <a:latin typeface="Arial"/>
              </a:rPr>
              <a:t>Le analisi di questo tipo producono nuova conoscenza e danno luogo ad ipotesi che possono essere vagliate in laboratorio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Un esempio: GETMaps </a:t>
            </a:r>
            <a:r>
              <a:rPr b="1" lang="it-IT" sz="2000" spc="-1" strike="noStrike">
                <a:solidFill>
                  <a:srgbClr val="336699"/>
                </a:solidFill>
                <a:latin typeface="Arial Narrow"/>
              </a:rPr>
              <a:t>(http://telethon.bio.unipd.it/GETMaps/)</a:t>
            </a:r>
            <a:br>
              <a:rPr sz="2000"/>
            </a:b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0024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99"/>
                </a:solidFill>
                <a:latin typeface="Arial"/>
              </a:rPr>
              <a:t>Un software sviluppato appositamente ha estratto da UniGene le informazioni relative ai geni espressi in dati tessuti umani e gia’ localizzati sui cromosomi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99"/>
                </a:solidFill>
                <a:latin typeface="Arial"/>
              </a:rPr>
              <a:t>In base a queste, un altro software ha prodotto le immagini delle mappe dei geni espressi in specifici tessuti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99"/>
                </a:solidFill>
                <a:latin typeface="Arial"/>
              </a:rPr>
              <a:t>Le analisi sui geni espressi nel cervello, retina, muscolo scheletrico e cuore hanno evidenziato che in specifici cromosomi sono “concentrati” geni attivi in dati tessuti, il che fa supporre esistano anche basi strutturali del controllo dell’ espression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90560" y="685440"/>
            <a:ext cx="7267320" cy="14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Un altro esempio: GETProfiles </a:t>
            </a:r>
            <a:r>
              <a:rPr b="1" lang="it-IT" sz="2000" spc="-1" strike="noStrike">
                <a:solidFill>
                  <a:srgbClr val="336699"/>
                </a:solidFill>
                <a:latin typeface="Arial Narrow"/>
              </a:rPr>
              <a:t>(http://telethon.bio.unipd.it/GETProfiles/)</a:t>
            </a:r>
            <a:br>
              <a:rPr sz="2000"/>
            </a:b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743200" y="2209320"/>
            <a:ext cx="71150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99"/>
                </a:solidFill>
                <a:latin typeface="Arial"/>
              </a:rPr>
              <a:t>In questo caso le informazioni cercate in UniGene riguardavano in quali tessuti fosse espresso un dato gene e, scelto un dato tessuto, quante EST fossero state finora ottenute per quel gen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99"/>
                </a:solidFill>
                <a:latin typeface="Arial"/>
              </a:rPr>
              <a:t>Infatti, maggiore e’ il numero di EST ottenute per un dato gene, verosimilmente maggiore la sua espressione nel tessuto considerato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99"/>
                </a:solidFill>
                <a:latin typeface="Arial"/>
              </a:rPr>
              <a:t>Le informazioni raccolte hanno permesso di costruire cataloghi di geni espressi in un dato tessuto, stimando per ciascun gene il livello di espression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99"/>
                </a:solidFill>
                <a:latin typeface="Arial"/>
              </a:rPr>
              <a:t>Si e’ scoperto cosi’ che la frazione di geni molto espressi in un tessuto differenziato e’ incredibilmente bassa. Il 70% dell’ mRNA totale e’ prodotto da meno di 500 geni!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00240" y="1009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Dove va la ricerca genomica?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971800" y="281916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99"/>
                </a:solidFill>
                <a:latin typeface="Arial"/>
              </a:rPr>
              <a:t>In breve si chiudera’ il capitolo del “sequenziamento” del genoma umano e dei genomi di organismi modello.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99"/>
                </a:solidFill>
                <a:latin typeface="Arial"/>
              </a:rPr>
              <a:t>Si aprira’ invece il capitolo della “Proteomica”, ossia dell’ analisi della traduzione e della descrizione delle proteine presenti nelle cellule, delle loro funzioni ed interazioni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8377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Quali ricadute?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0024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9999"/>
                </a:solidFill>
                <a:latin typeface="Arial"/>
              </a:rPr>
              <a:t>Comprensione dei meccanismi molecolari alla base di processi fisiologici e patologici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9999"/>
                </a:solidFill>
                <a:latin typeface="Arial"/>
              </a:rPr>
              <a:t>Identificazione di molecole potenzialmente in grado di agire come farmaci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9999"/>
                </a:solidFill>
                <a:latin typeface="Arial"/>
              </a:rPr>
              <a:t>Miglioramento sostanziale dell’ approccio farmacologico al trattamento e cura delle malattie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00240" y="1028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E, in piu’...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71800" y="27432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9999"/>
                </a:solidFill>
                <a:latin typeface="Arial"/>
              </a:rPr>
              <a:t>Probabilmente vi sara’ una rivoluzione nel campo diagnostico, dove l’ applicazione di DNA microarrays permettera’ di valutare una patologia in base a differenze di espressione di determinati geni.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00:51:11Z</dcterms:created>
  <dc:creator>GNBIO01</dc:creator>
  <dc:description/>
  <dc:language>en-US</dc:language>
  <cp:lastModifiedBy>GNBIO01</cp:lastModifiedBy>
  <dcterms:modified xsi:type="dcterms:W3CDTF">2000-09-20T16:09:35Z</dcterms:modified>
  <cp:revision>2</cp:revision>
  <dc:subject/>
  <dc:title>PROSPETTIVE DELLA GENOMICA UMANA</dc:title>
</cp:coreProperties>
</file>