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9C4-2045-4632-9D91-6CC0B7CA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B39-2136-42FD-AA52-27A21259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9A3-3238-416E-B5F6-09CB7CF5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E8F-709C-4038-A730-81073BC6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4BD6-8286-411B-8753-44C2E6EC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E004-7CBF-4B06-8D42-F3422599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E7B6-23E7-42CD-B3B6-54F7279A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8CEC-9D90-47C1-8C1E-8E518A3D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7EB6-4AED-4236-B4DC-9047A2C3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337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EF2E-C71E-434F-809D-7A6A878E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151E-AAB0-4C68-865F-7A8F32CE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5BF-71F2-4624-8F91-9267CC93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6E72-2E8B-4823-97BA-E5CEB07A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B6CF-A63B-4689-85D7-F80C01DA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BF57-69FC-41DC-9661-8034C441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80AF-F04E-47A8-8C18-DB4C2883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940A-14AA-4260-A762-B37EF33B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D8A-D2B2-4308-B8BE-050B303F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7BB-E149-420D-9FA2-7EE3E63D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089-7CAA-488F-A301-FE17BCF0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37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607F-2516-4F08-9638-9298F164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A0D1-D84A-4EAD-9D50-2DEB3291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A202-11CF-4704-BE9E-2A492100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AEEC-E145-45A6-A030-84CCE881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C79F-BCD6-4FC9-B45D-08DD6EB64D75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868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627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5E52-5866-45BD-BF37-2DE26B85DB83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2209680"/>
            <a:ext cx="66279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A bioinformatic approach to functional genomic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47239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Bortoluzzi S, d'Alessi F.,Romualdi C., Danieli G.A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HUMAN  FUNCTIONAL GENOMICS IS A 100m RACE !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Some consequence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In the human genome, 3,000 genes are differentially express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This subset of genes can be used to design an “universal” DNA chip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These genes are potential targets of the pharmaceutical research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Each of the top “Pharmas” will compete for about 60 produc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Multi-conditional </a:t>
            </a:r>
            <a:br>
              <a:rPr sz="4400"/>
            </a:b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gene-expression dat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19160" y="3352680"/>
            <a:ext cx="60958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Looking for differential express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Looking for correlated express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Clustering by expression patter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Inferring gene regulation network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The Challeng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90920" y="2895120"/>
            <a:ext cx="632448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To establish links between genes, rather than identifying their function, by exploiting comparative genomics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http://telethon.bio.unipd.it/GE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0" y="3276720"/>
            <a:ext cx="6324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Genomic maps of genes expressed in different human tissu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Catalogues of genes expressed in different human tissu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     </a:t>
            </a: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A new information er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66880" y="236232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Huge amount of information is  available, stored in the databases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Additional information is produced at increasing rate, by different projec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A computer-driven knowledge 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920" y="10285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Mapping out pathways of genes and protein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66880" y="22860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gain a comprehensive view of biology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provide novel methods for studying physiological and pathological changes in cells and tissu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identify diagnostic markers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identify therapeutical targets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68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The present parado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We may easely trace ALL the existing information about any human gene, provided we know its name or we know part of its DNA or protein sequence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We hardly may retrieve the EXISTING information on which genes are involved in a given process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Arial Narrow"/>
              </a:rPr>
              <a:t>A first attemp: genomic maps of genes expressed in selected human tissues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Select cDNA libraries from a given tissu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Retrieve the pertinent UniGene record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Analyze retrieved record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Integrate information with mapping information on markers ( resident in LDB, UDB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Produce maps of expressed gen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880" y="1026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A second attempt:  to produce transcriptional profiles of given human tissue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90560" y="2742840"/>
            <a:ext cx="60958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Select unbiased cDNA librar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Retrieve UniGene record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Analyze UniGene record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Estimate the expression level of each gene/transcript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Produce the catalogu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Analyze the profil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6880" y="10094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The present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6880" y="3048120"/>
            <a:ext cx="60962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Novel software developed, to rtrieve and analyze dat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Novel statistical test developed, to detect differential gene expression in different tissu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66880" y="1026720"/>
            <a:ext cx="6096240" cy="11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Current Research Projects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6880" y="27432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Study of genomic differential expression in muscle tissu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In selected  human tumours, identification of overexpressed genes coding for secreted protei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Identification of novel secreted proteins, in different normal and diseased tissu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66880" y="1028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Narrow"/>
              </a:rPr>
              <a:t>The Human Genom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66880" y="2743200"/>
            <a:ext cx="609624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Relatively low number of genes (about 31,000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10% of genes exibit a significant differential express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Arial"/>
              </a:rPr>
              <a:t>35% of genes have more than 1 transcrip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0:57:41Z</dcterms:created>
  <dc:creator>Veronica Danieli</dc:creator>
  <dc:description/>
  <dc:language>en-US</dc:language>
  <cp:lastModifiedBy>GNBIO01</cp:lastModifiedBy>
  <cp:lastPrinted>2001-02-12T17:47:58Z</cp:lastPrinted>
  <dcterms:modified xsi:type="dcterms:W3CDTF">2001-02-12T17:53:08Z</dcterms:modified>
  <cp:revision>5</cp:revision>
  <dc:subject/>
  <dc:title>A bioinformatic approach to functional genomics</dc:title>
</cp:coreProperties>
</file>