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C004-2448-4C58-9F14-9EEE63C0E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54CF-6025-4843-AEB1-3FEADB656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32E0-0884-40C3-BD0B-73AE4278B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63592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1764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5420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63592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51764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2F3A7-3A77-4D60-B574-9350D1750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6C5C4-3672-4AFD-8753-48A22C4E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E26A8-4B94-449B-80F4-4BD82561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2C032-92CC-4B7C-9169-80D5CE06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2F8B8-B7F3-4B0A-8153-A7BF0990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0FCB8-DA15-4166-BB85-3E236D3C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39560" y="1081080"/>
            <a:ext cx="9474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21E4F-550F-465D-8DB9-64777926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1BA6C-0BB1-4E3B-A0AC-14720EC4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1B8E-B250-4241-921E-DD78EA2E8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009A4-F7DE-4BCC-AA0D-A3FE362D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E7D5D-A111-4151-8439-EFD79DFE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86113-1FB9-4B65-BB9D-271741B6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C7B14-02DB-41CD-A0B5-18BFF667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3592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764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75420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63592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51764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6901C-B3F4-4A7C-ABB4-4CFDECCC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17B1-4F3A-4931-914D-CB6967BB6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3412-C6BC-4153-AD8B-81E5CFA14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53D4-A195-4923-8EB8-0598C9886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9560" y="1081080"/>
            <a:ext cx="9474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3C19-76F1-4A39-8311-BCD0EE9A4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5EF5-16AC-465B-9B06-2B49A3A8F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7E46-B465-403E-826C-F855FFE0C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9926-FC01-417C-8CF6-AF8FDB3D6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1002996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43560" y="5275440"/>
            <a:ext cx="381312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640" y="1066680"/>
            <a:ext cx="102693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889000" y="6119280"/>
            <a:ext cx="43974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435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365F-8433-4993-B4D5-3201AF88C755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6433560" y="-360"/>
            <a:ext cx="77144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7630200" y="-3200760"/>
            <a:ext cx="531360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7702200" y="-16200"/>
            <a:ext cx="2364120" cy="2725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148600" y="-12600"/>
            <a:ext cx="32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10287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43680" y="5275440"/>
            <a:ext cx="5179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1002996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40" y="1523880"/>
            <a:ext cx="102693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91400" y="-9360"/>
            <a:ext cx="370800" cy="6875280"/>
            <a:chOff x="7691400" y="-9360"/>
            <a:chExt cx="370800" cy="6875280"/>
          </a:xfrm>
        </p:grpSpPr>
        <p:sp>
          <p:nvSpPr>
            <p:cNvPr id="53" name=""/>
            <p:cNvSpPr/>
            <p:nvPr/>
          </p:nvSpPr>
          <p:spPr>
            <a:xfrm>
              <a:off x="7723080" y="6721560"/>
              <a:ext cx="8568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91400" y="304812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33760" y="335268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91400" y="426708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91400" y="548640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33760" y="457200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33760" y="579132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91400" y="-9360"/>
              <a:ext cx="8532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33760" y="-7920"/>
              <a:ext cx="2844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91400" y="47628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91400" y="169560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33760" y="78120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33760" y="200016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771120" y="5257440"/>
            <a:ext cx="43974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F896-8EE7-40B7-8569-97FE22EB4120}" type="datetime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771120" y="5638320"/>
            <a:ext cx="4397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8140680" y="6356160"/>
            <a:ext cx="214632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A3A7-F878-458B-B97F-9C2CB2FD2D4A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0960" y="404640"/>
            <a:ext cx="842652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760" y="1676520"/>
            <a:ext cx="1026792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71240" y="1523880"/>
            <a:ext cx="9537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600240" y="-360"/>
            <a:ext cx="77144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1240" y="1523880"/>
            <a:ext cx="9537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00"/>
                </a:solidFill>
                <a:latin typeface="Arial Narrow"/>
              </a:rPr>
              <a:t>GENETICA E MEDICINA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440" y="3581280"/>
            <a:ext cx="5591160" cy="20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ian Antonio Dani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partimento di Biologi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iversita' di Pad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26EFF0-02C1-419A-B55B-31BAF79F8D11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953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00"/>
                </a:solidFill>
                <a:latin typeface="Arial Narrow"/>
              </a:rPr>
              <a:t>La Genetica ha 100 anni, ma i sensazionali progressi di cui oggi si discute sono stati realizzati soltanto negli ultimi 10 anni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5591160" cy="20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fatti, sebbene le tecniche di ingegneria genetica fossero disponibili fino dai primi anni ‘70, e la tecnica PCR dalla meta’ degli anni ‘80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oltanto gli anni ‘90 hanno visto l’ esplodere di iniziative di ricerca e di nuove metodologie, che hanno portato in breve tempo al sequenziamento di diversi genomi, incluso il genoma um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DE7A80-D7B3-4F56-BA55-C5D7780B5D97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solidFill>
            <a:srgbClr val="ff9900"/>
          </a:solidFill>
          <a:ln w="9360">
            <a:solidFill>
              <a:srgbClr val="9966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Narrow"/>
              </a:rPr>
              <a:t>Il settore che forse piu’ di ogni altro ha beneficiato di questo progresso e’ la genetica medica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n solo sono state identificate le localizzazioni cromosomiche di moltissimi geni-malattia, ma di un numero sempre crescente di essi si conosce anche la sequenza di DNA e mutazioni patoge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Narrow"/>
              </a:rPr>
              <a:t>I progetti di sequenziamento genomico hanno dato un contributo fondamentale, fornendo geni “candidati” per ciascuna malatti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a localizzazione cromosomica corrisponde ad un intervallo di DNA di alcuni milioni di nucleoti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tale intervallo possono esservi anche molti geni, alcuni dei quali ancora non identific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’ analisi bioinformatica delle sequenze identifica le sequenze codifica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Narrow"/>
              </a:rPr>
              <a:t>Alcuni geni possono essere identificati attraverso il sequenziamento di ES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ediante trascittasi inversa e’’ possibile convertire gli mRNA cellulari in c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rammenti di tali cDNA, sequenziati, costituiscono EST (Expressed Sequence Ta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gni EST puo’ essere mappata sui cromosomi, mediante RH m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Narrow"/>
              </a:rPr>
              <a:t>Data una serie di geni candidati, identificare quello implicato nella malattia dipende dalla identificazione di mutazioni patogene nei pazienti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 mutazioni possono essere di diverso tipo: “nonsense”, “missense”,delezioni, duplicazioni, inserzioni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ra le mutazioni “missense”, corrispondenti a sostituzioni aminoacidiche, alcune non sono patogene. Vengono dette SNP (Single Nucleotide Polymprphis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Narrow"/>
              </a:rPr>
              <a:t>Correlazione genotipo-fenotipo : studio delle caratteristiche cliniche corrispondenti alle diverse mutazioni di un dato gen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3441600"/>
            <a:ext cx="556560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utation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ssibile ruolo di altri geni, soprattutto nei casi di geni con pentranza incomp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blematico l’ approccio nel caso di malattie genetiche multifattoria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 Narrow"/>
              </a:rPr>
              <a:t>Prospettiv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agnostica presintomatica basata su analisi del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agnostica molecolare basata su anticorpi specif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erapie farmacologiche basate sulla conoscenza della patogenesi molecol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erapie “genich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16:26:24Z</dcterms:created>
  <dc:creator>GNBIO01</dc:creator>
  <dc:description/>
  <dc:language>en-US</dc:language>
  <cp:lastModifiedBy>GNBIO01</cp:lastModifiedBy>
  <dcterms:modified xsi:type="dcterms:W3CDTF">2000-09-20T15:52:21Z</dcterms:modified>
  <cp:revision>3</cp:revision>
  <dc:subject/>
  <dc:title>GENETICA E MEDICINA</dc:title>
</cp:coreProperties>
</file>